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6.jpeg" ContentType="image/jpeg"/>
  <Override PartName="/ppt/media/image10.png" ContentType="image/png"/>
  <Override PartName="/ppt/media/image17.png" ContentType="image/png"/>
  <Override PartName="/ppt/media/image4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5D77-E59C-4A08-8F23-FA242577E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EAC8-8A5D-4B43-A0C5-E59B4AC9FA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5493-A915-4438-A03F-A16B2EDAA4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C6C0-7E69-4E72-BBD2-F9D0B07FFD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3DC1-4622-469C-9BFE-2D4B41C0A7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6711-70D7-447F-86CE-53F5C00567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840E-E197-4BC3-8F97-AA3679BB5E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438B-D697-4CEB-97C7-CEB1047D2CE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5960-87A8-439A-A332-1E221B9D1F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E489-DDF7-4B74-9BB7-977DD142E8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29A3-EB55-46CC-804D-8DE8142E44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5976-C28E-43D8-A4C5-5898DD6844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59E4-3FC2-4E13-A672-8F344AB20C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BA6E-751D-4A3D-A1CE-3F42E20070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C9E4-0317-48BD-BBCF-798E2079687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04A5-16F9-4DD7-B574-58FB755200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5D6C-0FA9-490F-AF19-8CDF186BC9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E1B0D-F6DE-4F9A-ABB8-5BAFFFFAB7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A441-1E13-411E-9E2D-1F4BBE9F08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00EC-F9AD-45A0-A149-B61592396A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20C6-C3F6-41C9-B674-DB3D04A1F1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0E8C-20AD-4DFB-909D-913816D864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C043-8C57-4501-A374-7EF171D8B7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E52D-D319-41EF-9920-CF7095C61E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4107-4FA1-4B9E-A26D-8A15590F0C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38B5-4B59-42EE-B347-5DCE6DFDC8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1033-C5AB-431D-8467-E8DC6DFB8E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99157-9602-4C8C-8C91-3E1D4EAFDBB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7554-85D0-4A7C-A268-E2A9AFB38F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0936-7B5B-476E-9F16-73558F89DF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425D0-516C-46CE-9F15-CE959090356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049D-284E-4579-AAC1-D23D6C0568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FCB4C-B0AB-4060-A497-ED8C4EACC3E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69B-2412-4BAC-B7D8-BDD0C254B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A47E-0F45-4A08-A75A-9AFF48468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2C69-DAB8-499C-9C1A-38D7EB31C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A42-C7F8-45E1-AE92-FDE4F87C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4A63-B9BC-4677-A2C0-D92BC267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1936-CB94-489A-AD8F-42A41A36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CF35-5964-415C-B634-F99656DCA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A58-057A-4FEB-AC62-A3B441DA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FDE-DD76-49BD-A2E0-83281F02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16E2-2BF6-4078-ACD0-4E687DB3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6388-2845-4BDE-93D3-53FB92BA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34F-7A8C-43E9-A4F4-C5131D57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FB557-ACCF-46C7-8A33-23CC22A7C2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BALret.m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BAL-ex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EB7E-DF15-43FE-8A13-E1357522E17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art 2A: Bronchioloalveolar lavage, volume 1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57400" y="6019920"/>
            <a:ext cx="5486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nchoscopy Intern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66680" y="152388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ategy and Pla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8" descr="colbert xry prelavage_1"/>
          <p:cNvPicPr/>
          <p:nvPr/>
        </p:nvPicPr>
        <p:blipFill>
          <a:blip r:embed="rId1"/>
          <a:srcRect l="13742" t="0" r="10337" b="22371"/>
          <a:stretch/>
        </p:blipFill>
        <p:spPr>
          <a:xfrm>
            <a:off x="2438280" y="2590920"/>
            <a:ext cx="3962520" cy="33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5928-8FB5-42BC-AE58-E3BD7F1065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L techniqu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line instillation (room temperatur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mall aliquots (20-60 each) via syri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than 100 cc total per segment samp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ually done after biopsy or brushing to increase cellular content of BAL sample for diagnosis of infection or maligna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ILD, changes in cell population of recovered fluid occurred only after at least 120 cc is instill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80880" y="56386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 Rev Respir Dis 1985;132:390-39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 Rev Respir Dis 1982;126:611-61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7C55-D442-4518-B0BC-0EDBDC9920B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Example of gravity bag technique for 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Picture 3" descr="set up for BAL b"/>
          <p:cNvPicPr/>
          <p:nvPr/>
        </p:nvPicPr>
        <p:blipFill>
          <a:blip r:embed="rId1"/>
          <a:stretch/>
        </p:blipFill>
        <p:spPr>
          <a:xfrm>
            <a:off x="3581280" y="1447920"/>
            <a:ext cx="2514600" cy="1706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set up for BAL e"/>
          <p:cNvPicPr/>
          <p:nvPr/>
        </p:nvPicPr>
        <p:blipFill>
          <a:blip r:embed="rId2"/>
          <a:stretch/>
        </p:blipFill>
        <p:spPr>
          <a:xfrm>
            <a:off x="6248520" y="1447920"/>
            <a:ext cx="2514600" cy="1697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set up for BAL d"/>
          <p:cNvPicPr/>
          <p:nvPr/>
        </p:nvPicPr>
        <p:blipFill>
          <a:blip r:embed="rId3"/>
          <a:stretch/>
        </p:blipFill>
        <p:spPr>
          <a:xfrm>
            <a:off x="5029200" y="4419720"/>
            <a:ext cx="3048120" cy="2057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setup for BAL c"/>
          <p:cNvPicPr/>
          <p:nvPr/>
        </p:nvPicPr>
        <p:blipFill>
          <a:blip r:embed="rId4"/>
          <a:stretch/>
        </p:blipFill>
        <p:spPr>
          <a:xfrm>
            <a:off x="685800" y="4419720"/>
            <a:ext cx="3124080" cy="2108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train ffb bal scope"/>
          <p:cNvPicPr/>
          <p:nvPr/>
        </p:nvPicPr>
        <p:blipFill>
          <a:blip r:embed="rId5">
            <a:lum bright="18000"/>
          </a:blip>
          <a:srcRect l="5175" t="11391" r="8623" b="11391"/>
          <a:stretch/>
        </p:blipFill>
        <p:spPr>
          <a:xfrm>
            <a:off x="228600" y="1295280"/>
            <a:ext cx="3124080" cy="20005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8"/>
          <p:cNvSpPr/>
          <p:nvPr/>
        </p:nvSpPr>
        <p:spPr>
          <a:xfrm>
            <a:off x="1143000" y="34290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line solution is hung, and bag is squeezed to gently deliver saline into target seg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37FA-F6E9-494B-B837-CE4D95B25D5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BAL Techniqu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uid recovery via suction chann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nd suction into syringe, Gravity flow into a dependent container, or Gentle wall suction into a specimen contain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ptimal dwell time unkn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use slow deep inspiration with instillation and slow exhalation with recove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overy better with larger instilled volu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 aliquot often recover &lt; 20% of volu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equent aliquots recover 40-70% of volu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iquots are usually pooled together often excluding the first aliquot (may contain mostly bronchial cell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5C6A2-FF25-419E-9B73-5CF126E6EB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Q9: Bronchoalveolar Lavage Fluid return is usually greatest in smokers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228600" y="4114800"/>
            <a:ext cx="806400" cy="2544480"/>
            <a:chOff x="228600" y="4114800"/>
            <a:chExt cx="806400" cy="2544480"/>
          </a:xfrm>
        </p:grpSpPr>
        <p:sp>
          <p:nvSpPr>
            <p:cNvPr id="110" name="Freeform 4"/>
            <p:cNvSpPr/>
            <p:nvPr/>
          </p:nvSpPr>
          <p:spPr>
            <a:xfrm>
              <a:off x="486000" y="4257360"/>
              <a:ext cx="315720" cy="5547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Freeform 5"/>
            <p:cNvSpPr/>
            <p:nvPr/>
          </p:nvSpPr>
          <p:spPr>
            <a:xfrm>
              <a:off x="228600" y="4114800"/>
              <a:ext cx="363600" cy="890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Freeform 6"/>
            <p:cNvSpPr/>
            <p:nvPr/>
          </p:nvSpPr>
          <p:spPr>
            <a:xfrm>
              <a:off x="571680" y="4853160"/>
              <a:ext cx="190440" cy="836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Freeform 7"/>
            <p:cNvSpPr/>
            <p:nvPr/>
          </p:nvSpPr>
          <p:spPr>
            <a:xfrm>
              <a:off x="659520" y="4875840"/>
              <a:ext cx="290160" cy="641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Freeform 8"/>
            <p:cNvSpPr/>
            <p:nvPr/>
          </p:nvSpPr>
          <p:spPr>
            <a:xfrm>
              <a:off x="682560" y="5603760"/>
              <a:ext cx="352440" cy="1037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Freeform 9"/>
            <p:cNvSpPr/>
            <p:nvPr/>
          </p:nvSpPr>
          <p:spPr>
            <a:xfrm>
              <a:off x="460440" y="5601960"/>
              <a:ext cx="236880" cy="1057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16" name="Picture 10" descr="Leukens Specimen Traps"/>
          <p:cNvPicPr/>
          <p:nvPr/>
        </p:nvPicPr>
        <p:blipFill>
          <a:blip r:embed="rId1"/>
          <a:stretch/>
        </p:blipFill>
        <p:spPr>
          <a:xfrm>
            <a:off x="2057400" y="1752480"/>
            <a:ext cx="529596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A3EF8-1683-4731-8CD1-1FDB294CB7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FALSE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. In smokers, BAL fluid return is less than in nonsmokers (in whom one might expect to retrieve about 40-60 percent of the fluid instilled)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chniques that help maximize fluid return inclu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ructing the patient to breathe deeply during fluid instillation and during suctio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dging the bronchoscope deep inside the segmental bronch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ing suction pressures less than 120 cm H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 (using manual suction rather than wall suction for examp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3FCC-361D-49B6-90B6-7370D56DB6F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BAL fluid return is also enhanced b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rgeting the middle lobe or the  lingula in case of diffuse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ferential selection of nondependent abnormal areas in case of localized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2666880" y="5562720"/>
            <a:ext cx="4191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BAL fluid return vid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ipf-10"/>
          <p:cNvPicPr/>
          <p:nvPr/>
        </p:nvPicPr>
        <p:blipFill>
          <a:blip r:embed="rId2"/>
          <a:stretch/>
        </p:blipFill>
        <p:spPr>
          <a:xfrm>
            <a:off x="5410080" y="1600200"/>
            <a:ext cx="3365640" cy="3592440"/>
          </a:xfrm>
          <a:prstGeom prst="rect">
            <a:avLst/>
          </a:prstGeom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EC7C-5D17-4150-ACC6-785A02EB97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agnostic yield for B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Characteristic cellular patterns in numerous disea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Several ILD have distinct findings on B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Well-defined cellular patterns for smokers, former smokers, and nonsmok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More specific yields i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Malignanc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Infection (Pneumocystis in HIV 96-98%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Hemorrh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Alveolar proteinosi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Fat emboli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Lipoid pneumon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Silicosis/berylliosis/asbest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Eosinophilic lung diseas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Oth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6F8C-E6E1-4630-AAAF-2792ADC0CC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Q9: Bronchoscopy with BAL is superior to sputum induction to rule out Tuberculosis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4" name="Picture 3" descr="300px-TB_in_sputum"/>
          <p:cNvPicPr/>
          <p:nvPr/>
        </p:nvPicPr>
        <p:blipFill>
          <a:blip r:embed="rId1"/>
          <a:stretch/>
        </p:blipFill>
        <p:spPr>
          <a:xfrm>
            <a:off x="1219320" y="2133720"/>
            <a:ext cx="2857320" cy="2800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hest_X-ray_of_a_tuberculosis_patient"/>
          <p:cNvPicPr/>
          <p:nvPr/>
        </p:nvPicPr>
        <p:blipFill>
          <a:blip r:embed="rId2"/>
          <a:srcRect l="3848" t="1720" r="3848" b="13978"/>
          <a:stretch/>
        </p:blipFill>
        <p:spPr>
          <a:xfrm>
            <a:off x="4343400" y="1752480"/>
            <a:ext cx="3657600" cy="373392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228600" y="4114800"/>
            <a:ext cx="806400" cy="2544480"/>
            <a:chOff x="228600" y="4114800"/>
            <a:chExt cx="806400" cy="2544480"/>
          </a:xfrm>
        </p:grpSpPr>
        <p:sp>
          <p:nvSpPr>
            <p:cNvPr id="137" name="Freeform 6"/>
            <p:cNvSpPr/>
            <p:nvPr/>
          </p:nvSpPr>
          <p:spPr>
            <a:xfrm>
              <a:off x="486000" y="4257360"/>
              <a:ext cx="315720" cy="5547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Freeform 7"/>
            <p:cNvSpPr/>
            <p:nvPr/>
          </p:nvSpPr>
          <p:spPr>
            <a:xfrm>
              <a:off x="228600" y="4114800"/>
              <a:ext cx="363600" cy="890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Freeform 8"/>
            <p:cNvSpPr/>
            <p:nvPr/>
          </p:nvSpPr>
          <p:spPr>
            <a:xfrm>
              <a:off x="571680" y="4853160"/>
              <a:ext cx="190440" cy="836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Freeform 9"/>
            <p:cNvSpPr/>
            <p:nvPr/>
          </p:nvSpPr>
          <p:spPr>
            <a:xfrm>
              <a:off x="659520" y="4875840"/>
              <a:ext cx="290160" cy="641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682560" y="5603760"/>
              <a:ext cx="352440" cy="1037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460440" y="5601960"/>
              <a:ext cx="236880" cy="1057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70128-D455-4AB2-B1D2-29AC149522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ahoma"/>
              </a:rPr>
              <a:t>FALSE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. Induced sputum is equivalent to bronchoscopy with BAL for routine evaluation of suspected TB.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nderson et 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tients unable to expectorate or sputum negative. 3% saline followed by bronchoscopy. 26 had TB, 20 cases positive on sputum, 19 cases positive on bronchoscopy. Sensitivity: 73% bronchoscopy, 77% sputum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nde et 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43 patients with confirmed TB. Diagnosis based on Single sputum induction in 66%, BAL 72%. This was Regardless of HIV statu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aglam et 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V negative patients with suspected TB. Initially smear negative. Sputum induction smear positive 47%, culture positive 63%. Bronchoscopy smear positive in 53% and culture positive in 67%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cWilliams et 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spective study. Patients initially smear negative, 3 sputum inductions, if negative then bronchoscopy with BAL. 42 cases of TB. 27 TB patients went through all phases. 96% were positive on induced sputum. 52% positive on bronchoscopy with BAL. Only 1 positive using bronchoscopy alone. 13 positive with sputum induction alone and 13 were positive using both modalitie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15BE-B1B4-4FE5-8612-5F21103E81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Garamond"/>
              </a:rPr>
              <a:t>Induced sputum versus BAL for detection of Acid Fast Bacilli Smear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50" name="Picture 3" descr="smear"/>
          <p:cNvPicPr/>
          <p:nvPr/>
        </p:nvPicPr>
        <p:blipFill>
          <a:blip r:embed="rId1"/>
          <a:stretch/>
        </p:blipFill>
        <p:spPr>
          <a:xfrm>
            <a:off x="1447920" y="2057400"/>
            <a:ext cx="6541920" cy="37638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2151720" y="6019920"/>
            <a:ext cx="46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AFB (shown in red) are tubercle bacill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Line 5"/>
          <p:cNvSpPr/>
          <p:nvPr/>
        </p:nvSpPr>
        <p:spPr>
          <a:xfrm flipH="1">
            <a:off x="5181480" y="5181480"/>
            <a:ext cx="9144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2F7F6-ECE9-4403-B72F-598A51BCBF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istor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lly described in the 1970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inally referred to as a “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quid lung biops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BAL samples the contents of millions of alveol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ield is therefore greatest for alveolar filling proces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8" descr="ipf-10"/>
          <p:cNvPicPr/>
          <p:nvPr/>
        </p:nvPicPr>
        <p:blipFill>
          <a:blip r:embed="rId1"/>
          <a:stretch/>
        </p:blipFill>
        <p:spPr>
          <a:xfrm>
            <a:off x="304920" y="3962520"/>
            <a:ext cx="2508120" cy="2678040"/>
          </a:xfrm>
          <a:prstGeom prst="rect">
            <a:avLst/>
          </a:prstGeom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003366"/>
            </a:outerShdw>
          </a:effectLst>
        </p:spPr>
      </p:pic>
      <p:sp>
        <p:nvSpPr>
          <p:cNvPr id="59" name="Rectangle 9"/>
          <p:cNvSpPr/>
          <p:nvPr/>
        </p:nvSpPr>
        <p:spPr>
          <a:xfrm>
            <a:off x="3696480" y="4952880"/>
            <a:ext cx="47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s is NOT a bronchial wash 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D6A0-8039-42E4-95DD-A5A8842467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duced Sputum vs B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Induced sputum vs B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itivity 34% vs 38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pecificity 100% vs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sitive predictive value 100% vs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gative predictive value 53% vs 5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se patients were able to participate in sputum inductio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ltiple (up to 3) induced sputum samples should be obta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28600" y="548640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*Conde MB; Soares SL; Mello FC.  Comparison of sputum induction with fiberoptic bronchoscopy in the diagnosis of tuberculosis: experience at an acquired immune deficiency syndrome reference center in Rio de Janeiro, Brazil; Am J Respir Crit Care Med 2000 Dec;162(6):2238-40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4309-25AE-4A1F-BBF2-87927D36C5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duced Sputum vs B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nchoscopy should only be done after induced sputum x 3 are negative, or in patients unable to provide inducible sputum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sks to pt/staff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mited availability of bronchoscopy in developing countr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685800" y="5029200"/>
            <a:ext cx="766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chael Brown, Hansa Varia, Paul Bassett, Robert N. Davidson, Robert Wall and Geoffrey Pasvol.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rospective study of sputum induction, gastric washing, and bronchoalveolar lavage for the diagnosis of pulmonary tuberculosis in patients who are unable to expectorat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Clin Infect Dis. 2007 Jun 1;44(11):1415-2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5335-1463-40C4-B96C-446825C22D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L in Lung Canc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L: performed in setting of peripheral, endoscopically nonvisible le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ytology positive in about 25% with peripheral le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reases to 70% in patients with endoscopically visible le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er yield with infiltrates as opposed to nodu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onchoalveolar cell carcinoma: most readily identified primary lung canc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sitive cytology approaching 90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 also detect metastatic maligna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lanoma, soft tissue sarcoma, and malignancies of breast, GI, and pancre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F81C2-4E67-4B2B-B178-7D1441D9F6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e5ffff"/>
                </a:solidFill>
                <a:latin typeface="Tahoma"/>
              </a:rPr>
              <a:t>BAL in immuno-suppressed pati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04920" y="1295280"/>
          <a:ext cx="8458200" cy="4702320"/>
        </p:xfrm>
        <a:graphic>
          <a:graphicData uri="http://schemas.openxmlformats.org/drawingml/2006/table">
            <a:tbl>
              <a:tblPr/>
              <a:tblGrid>
                <a:gridCol w="1371600"/>
                <a:gridCol w="1218960"/>
                <a:gridCol w="1752840"/>
                <a:gridCol w="1447560"/>
                <a:gridCol w="1143000"/>
                <a:gridCol w="15242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Diagnostic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Yiel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HI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Stem cell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transpl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Chemotherap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Solid organ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Transplant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Other 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5ffff"/>
                          </a:solidFill>
                          <a:latin typeface="Tahoma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Bacteri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02 (4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4 (2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5 (26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7 (3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58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3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Mycobacter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3 (1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0 (0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 (1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4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6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Aspergillu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 (0.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 (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6 (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 (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0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CMV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9 (2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5 (1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6 (2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3 (2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33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22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Other viruse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7 (9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6 (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3 (13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7 (7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83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C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10 (26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3 (4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25 (1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8 (8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56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(15%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otal B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3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7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06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1" name="Text Box 68"/>
          <p:cNvSpPr/>
          <p:nvPr/>
        </p:nvSpPr>
        <p:spPr>
          <a:xfrm>
            <a:off x="838080" y="6095880"/>
            <a:ext cx="697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5ffff"/>
                </a:solidFill>
                <a:latin typeface="Arial"/>
              </a:rPr>
              <a:t>Joos L et al. Pulmonary infections diagnosed by BAL: A 12-year experience in 1066 immunocompromised patients. Respir Med. 2006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9E8D-374A-4030-88CE-9FE1EF84B2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BAL – related complications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and adverse event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ypoxem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ver in 25-50 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ually resolves in a few hours and after administration of antipyretic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density on chest radiograph or 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ackles and alveolar infiltrates may last up to 24 ho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crease in spirom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neumothor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mean airway pressures (in ventilated patient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2B5F-FFFE-43D8-8518-840BB72275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ther complications of B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BAL specific bleeding 0.7%</a:t>
            </a:r>
            <a:r>
              <a:rPr b="0" lang="en-US" sz="2800" spc="-1" strike="noStrike" baseline="30000">
                <a:solidFill>
                  <a:srgbClr val="e5ffff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Complication rates similar to those of inspection flexible bronchoscop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Mortality 0.01 -0.04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Major complications &lt; 1%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Fever, bleeding, infection, arrhythmia, respiratory depression, vagal reactions, pneumothorax, bronchospasm, bacterem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Decrease in pa02 is common and worse when larger BAL volumes are us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Small series of critically ill pneumonia patients experienced high fever with decreased MAP and pa02</a:t>
            </a:r>
            <a:r>
              <a:rPr b="0" lang="en-US" sz="2400" spc="-1" strike="noStrike" baseline="30000">
                <a:solidFill>
                  <a:srgbClr val="e5ffff"/>
                </a:solidFill>
                <a:latin typeface="Tahoma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04920" y="59436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EST 1981;80:268-271  BAL in ILD *Intensive Care Med 1992;18: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860EF-28B8-4BE7-879A-DE9B16B682C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afety of B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an  usually be done safely in patients with asth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Numerous older studies showing safety in AIDS, ARDS, mechanical ventilation, thrombocytopen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971800" y="6248520"/>
            <a:ext cx="3429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FCF3-C81F-4FD6-8132-3B7EC35022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Helpful Hints for performing B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void rapid “trumpet playing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stead, suction gently and slowl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ep scope in the midlin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void coug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creased recovery 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PD (correlates with worsening FEV1/FVC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dvanced age, smokers versus nonsmok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chanical venti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hen scope is over-wedg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knowledge an inadequate sa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ess than 10% of instilled volum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reater than 2% columnar epithelial cell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24840" y="5943600"/>
            <a:ext cx="41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m Rev Respir Dis 1985;132:254-260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Picture 5" descr="meh61036"/>
          <p:cNvPicPr/>
          <p:nvPr/>
        </p:nvPicPr>
        <p:blipFill>
          <a:blip r:embed="rId1"/>
          <a:srcRect l="22704" t="0" r="6909" b="0"/>
          <a:stretch/>
        </p:blipFill>
        <p:spPr>
          <a:xfrm>
            <a:off x="6095880" y="1441440"/>
            <a:ext cx="2819520" cy="2668680"/>
          </a:xfrm>
          <a:prstGeom prst="rect">
            <a:avLst/>
          </a:prstGeom>
          <a:ln w="76320">
            <a:solidFill>
              <a:srgbClr val="e5ffff"/>
            </a:solidFill>
            <a:miter/>
          </a:ln>
        </p:spPr>
      </p:pic>
      <p:sp>
        <p:nvSpPr>
          <p:cNvPr id="192" name="Text Box 6"/>
          <p:cNvSpPr/>
          <p:nvPr/>
        </p:nvSpPr>
        <p:spPr>
          <a:xfrm>
            <a:off x="6095880" y="426708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5ffff"/>
                </a:solidFill>
                <a:latin typeface="Garamond"/>
              </a:rPr>
              <a:t>Good wedge where airway remains visi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9283-4E31-4DE8-89CF-BE9EFC9034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More helpful hints for performing BAL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the patient to inhale, and even to hold one’s breath during fluid instill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conscious sedation to improve patient comfor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refully examine airway-computed tomography correlations to plan the proced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 bronchoscopy assistants of procedure pl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instructions such as “traps on”, “traps off” , to communicate about when to retrieve BAL specimen and communicate with assista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 cytologist and microbiologists of indications for the proced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41140-CDB7-43E2-84EA-5D6CFFAC19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is presentation is part of a comprehensive curriculum for Flexible Bronchoscopy. Our goals are to help health care workers become better at what they do, and to decrease the burden of procedure-related training on patients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B567-1E19-4696-BD73-F48E14BA87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00400" y="456840"/>
            <a:ext cx="23623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BAL today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610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ed routinely in patients with pulmonary infiltrates of presumed infectious etiolog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ed also in patients with history or suspicion of neoplas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formed for other alveolar filling proce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veolar protei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veolar hemorrh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t embolism and lipoid pneum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DF86-ED32-4E42-B04C-2DEFF51B50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3" name="Group 2"/>
          <p:cNvGrpSpPr/>
          <p:nvPr/>
        </p:nvGrpSpPr>
        <p:grpSpPr>
          <a:xfrm>
            <a:off x="6400800" y="4038480"/>
            <a:ext cx="2590560" cy="2590560"/>
            <a:chOff x="6400800" y="4038480"/>
            <a:chExt cx="2590560" cy="2590560"/>
          </a:xfrm>
        </p:grpSpPr>
        <p:pic>
          <p:nvPicPr>
            <p:cNvPr id="204" name="Picture 3" descr="Bronchoscopy Atlas"/>
            <p:cNvPicPr/>
            <p:nvPr/>
          </p:nvPicPr>
          <p:blipFill>
            <a:blip r:embed="rId1"/>
            <a:stretch/>
          </p:blipFill>
          <p:spPr>
            <a:xfrm>
              <a:off x="6400800" y="4038480"/>
              <a:ext cx="25905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4"/>
            <p:cNvSpPr/>
            <p:nvPr/>
          </p:nvSpPr>
          <p:spPr>
            <a:xfrm>
              <a:off x="6685200" y="4150440"/>
              <a:ext cx="218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BRONCHATLAS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Tahoma"/>
                  <a:ea typeface="Arial"/>
                </a:rPr>
                <a:t>©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06" name="Picture 5" descr="Art of Bronchoscopy Page"/>
          <p:cNvPicPr/>
          <p:nvPr/>
        </p:nvPicPr>
        <p:blipFill>
          <a:blip r:embed="rId2"/>
          <a:stretch/>
        </p:blipFill>
        <p:spPr>
          <a:xfrm>
            <a:off x="2743200" y="4098960"/>
            <a:ext cx="3505320" cy="257184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6"/>
          <p:cNvGrpSpPr/>
          <p:nvPr/>
        </p:nvGrpSpPr>
        <p:grpSpPr>
          <a:xfrm>
            <a:off x="6553080" y="152280"/>
            <a:ext cx="2438280" cy="3276720"/>
            <a:chOff x="6553080" y="152280"/>
            <a:chExt cx="2438280" cy="3276720"/>
          </a:xfrm>
        </p:grpSpPr>
        <p:pic>
          <p:nvPicPr>
            <p:cNvPr id="208" name="Picture 7" descr="BRONCHOSCOPY poster FINAL"/>
            <p:cNvPicPr/>
            <p:nvPr/>
          </p:nvPicPr>
          <p:blipFill>
            <a:blip r:embed="rId3"/>
            <a:stretch/>
          </p:blipFill>
          <p:spPr>
            <a:xfrm>
              <a:off x="6553080" y="152280"/>
              <a:ext cx="243828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Rectangle 8"/>
            <p:cNvSpPr/>
            <p:nvPr/>
          </p:nvSpPr>
          <p:spPr>
            <a:xfrm>
              <a:off x="6553080" y="152280"/>
              <a:ext cx="2412720" cy="3373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ep by Step©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210" name="Picture 9" descr="Module 1"/>
          <p:cNvPicPr/>
          <p:nvPr/>
        </p:nvPicPr>
        <p:blipFill>
          <a:blip r:embed="rId4"/>
          <a:stretch/>
        </p:blipFill>
        <p:spPr>
          <a:xfrm>
            <a:off x="228600" y="228600"/>
            <a:ext cx="2362320" cy="28954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211" name="Picture 10" descr="Assessment Icon"/>
          <p:cNvPicPr/>
          <p:nvPr/>
        </p:nvPicPr>
        <p:blipFill>
          <a:blip r:embed="rId5"/>
          <a:stretch/>
        </p:blipFill>
        <p:spPr>
          <a:xfrm>
            <a:off x="2971800" y="228600"/>
            <a:ext cx="3276720" cy="2513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1" descr="Practical Approach Logo"/>
          <p:cNvPicPr/>
          <p:nvPr/>
        </p:nvPicPr>
        <p:blipFill>
          <a:blip r:embed="rId6"/>
          <a:stretch/>
        </p:blipFill>
        <p:spPr>
          <a:xfrm>
            <a:off x="228600" y="3352680"/>
            <a:ext cx="2341440" cy="32767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2"/>
          <p:cNvSpPr/>
          <p:nvPr/>
        </p:nvSpPr>
        <p:spPr>
          <a:xfrm>
            <a:off x="2971800" y="3124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Bronchoscopy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DD6A-012D-449D-9644-03BB476149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l efforts are made by Bronchoscopy International to maintain currency of online information. All published multimedia slide shows, streaming videos, and essays can be cited for reference as: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onchoscopy International: Art of Bronchoscopy, an Electronic On-Line Multimedia Slide Presentation. http://www.Bronchoscopy.org/Art of Bronchoscopy/htm. Published 2007 (Please add “Date Accessed”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04920" y="22860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9" name="Picture 5" descr="art of bronchoscopy"/>
          <p:cNvPicPr/>
          <p:nvPr/>
        </p:nvPicPr>
        <p:blipFill>
          <a:blip r:embed="rId1"/>
          <a:stretch/>
        </p:blipFill>
        <p:spPr>
          <a:xfrm>
            <a:off x="2514600" y="3708360"/>
            <a:ext cx="3962520" cy="263988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"/>
          <p:cNvSpPr/>
          <p:nvPr/>
        </p:nvSpPr>
        <p:spPr>
          <a:xfrm>
            <a:off x="6934320" y="4952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DD08-E516-4AF0-B8F4-517B6ABB4A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Prepared with the expert assistance of Udaya Prakash M.D. (Mayo Clinic, USA), and Atul Mehta M.D. (Cleveland Clinic, USA), and Wes Shepherd M.D. (Virginia Commonwealth University, USA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24" name="Picture 3" descr="Bronch International Poster"/>
          <p:cNvPicPr/>
          <p:nvPr/>
        </p:nvPicPr>
        <p:blipFill>
          <a:blip r:embed="rId1"/>
          <a:stretch/>
        </p:blipFill>
        <p:spPr>
          <a:xfrm>
            <a:off x="304920" y="3657600"/>
            <a:ext cx="4038480" cy="270360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4"/>
          <p:cNvSpPr/>
          <p:nvPr/>
        </p:nvSpPr>
        <p:spPr>
          <a:xfrm>
            <a:off x="487692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www.bronchoscopy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3475-1B44-4D36-BECF-33E61CB6C8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raining is essential in order to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proper techniques and ind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 procedure-related complic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to protect the equipment and the pat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maximize fluid retu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void scope-related trau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void excess patient discomfort (cough, anxiety, shortness of breath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684E-78F4-4AD9-8863-A8FC69978F0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Greatest yield for BAL in patients with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1532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ipheral Malignan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ection (Pneumocystis in HIV 96-98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veolar proteinosis, alveolar hemorrh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at embolism and Lipoid pneumo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licosis/berylliosis/asbest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osinophilic lung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3220-27F4-4397-8E4F-75A0282092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ndications for BAL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5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 appl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racteristic cellular patterns in numerous diseases (asthma, AR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veral ILD have distinct findings on BA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ll-defined cellular patterns for smokers, former smokers, and nonsmok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E63F-D9E5-4D81-9C58-D6D8258AAE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raindications to B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ontraindications, b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L-induced hypoxemia may last several hou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nd may exacerbate respiratory insuffici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tion also in ventilated patients (minimize time in the airwa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unstable patients with severe hypoxemia, large volume BAL may be enough to prompt need for intub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6AE8-95F6-4541-A0B0-907665AE8F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AL Techniques var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cation should be recorded in procedure n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reased yield in gravity dependent are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arget involved segment in focal dise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ML and lingula are also preferred si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dge the scope in the target segmen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ction channel should be in the airway lumen, not against the w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firmed by slight airway wall collapse with gentle s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luid instillation gently dilates segmental airw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233A-64E2-41E0-8CD4-0C69FAF1F0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onchoalveolar lavage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onchioloalveolar lav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514600" y="3429000"/>
            <a:ext cx="4648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Garamond"/>
                <a:hlinkClick r:id="rId1"/>
              </a:rPr>
              <a:t>Video of BAL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20:18:40Z</dcterms:created>
  <dc:creator>hcolt</dc:creator>
  <dc:description/>
  <dc:language>en-US</dc:language>
  <cp:lastModifiedBy>Administrator</cp:lastModifiedBy>
  <dcterms:modified xsi:type="dcterms:W3CDTF">2008-06-25T21:53:26Z</dcterms:modified>
  <cp:revision>247</cp:revision>
  <dc:subject>bronchalveolar lavage</dc:subject>
  <dc:title>AB part 2A</dc:title>
</cp:coreProperties>
</file>