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9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3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DE88-BED0-42A6-8AFF-E646D34EC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A204-C16A-4D89-99CA-6DB1DAC411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0534-316D-45C9-9AEF-1DC2257DF0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C68B-F6D6-483E-B763-BDBFE7D858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7382-91FB-4575-8D65-A259A1012E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DCEC-16F9-4A35-B8E5-774D8C14FF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5BED-CE52-439B-A4BE-EEA563803E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85CE-443F-498D-BA9F-F2B2DF072B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408B-A422-4F8F-9FA2-B7C55A91B9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7933-B77D-4C76-9F38-3FBEFCB9C3F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C55F-02B3-4C19-BEB4-2B3F382F62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81C7-E8A6-4C05-B48D-5011230311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CDA9-D242-4D82-A525-15A0B34A757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E6C6-2533-453F-A386-14E471D462F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70D0-CB29-4CC3-AC44-B1BCFDA8434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6FD6-1EB7-4101-9F78-1C55911708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77B5-F1C9-423A-9496-39797482775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3460-6024-4C01-B110-D6E3CE4643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F85D-B0F1-4562-BB5A-86E4E69A95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62AB-0375-4403-BC0D-571AB29BEE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C906-FE67-4410-A0DE-0D9E0E27E21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71F8-8655-4CB7-96D1-3F943797E4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63C5-3C52-43CB-B3BE-64F4F5CDD01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DF43-9A46-4E1D-86AD-C583052E70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6FE3-9C89-4B44-9647-4C8673BE5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31B7-2856-4A7B-A4A2-3C6D02133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9B22-3883-46E5-9E48-48A5B545C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BB9C-56C8-4D15-A9CF-A72D968EA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97DB-6AB7-4590-9D71-74836053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1DF9-4737-458F-8875-CE45D54F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D9B2-CCE0-4B3A-882C-D3945575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EE72-4BAC-4396-8E39-49CE38C0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9182-CDC7-4CE7-9DFE-177A8AFDC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2929-697D-4BBE-897C-EFF394DC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3125-5ABC-45B8-B93C-20DFBD4D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7900-9142-403F-B097-E9237955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2B20-80F6-43A6-B153-D7B54A4125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brush-01.m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EDDF-5DF4-4431-AF96-1B1F87168D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Part 3B: Endobronchial Brushing</a:t>
            </a: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volume 1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057400" y="6019920"/>
            <a:ext cx="5486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onchoscopy Internat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1066680" y="1523880"/>
            <a:ext cx="6705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rategy and Plan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8A14-BA53-4865-B10D-46F4E3653A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Bronchial brushing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Yiel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94% endoscopically visible/peripheral 78%</a:t>
            </a:r>
            <a:r>
              <a:rPr b="0" lang="en-US" sz="2800" spc="-1" strike="noStrike" baseline="30000">
                <a:solidFill>
                  <a:srgbClr val="ffcc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92% central and peripheral with fluoro</a:t>
            </a:r>
            <a:r>
              <a:rPr b="0" lang="en-US" sz="2800" spc="-1" strike="noStrike" baseline="30000">
                <a:solidFill>
                  <a:srgbClr val="ffcc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77% endoscopically visible/20% peripheral with fluoro</a:t>
            </a:r>
            <a:r>
              <a:rPr b="0" lang="en-US" sz="2800" spc="-1" strike="noStrike" baseline="30000">
                <a:solidFill>
                  <a:srgbClr val="ffcc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3048120" y="4952880"/>
            <a:ext cx="4343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EST 1973;63:889-89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m Rev Respir Dis 1974;109:63-6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EST 1974;65:616-61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HEST 1976;69:752-757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9361-D438-4D44-BBEF-8D879D2C33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Bronchial brushing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omplicat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Blee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neumothorax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77FF-21E0-4A2C-8651-9B99D24EF75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Biopsy vs cytology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154 patients with malignant pulmonary les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Each patient had (EBB or TBB) AND (TBNA or brushi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EBB/TBB sensitivity 62.8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BNA/brush (cyto) sensitivity 69.2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Combined sensitivity 87.2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828800" y="3429000"/>
            <a:ext cx="5487840" cy="28670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2971800" y="632448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 Bronchol 2004;11:154-15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A076-4594-48C1-B0B5-CC3FBB2075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Additional literature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7238880" cy="4495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2971800" y="6467400"/>
            <a:ext cx="3505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 Bronchol 2004;11:154-159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6FCC-3C4D-408E-8745-19E8E5F509C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ndobronchial Brush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ush samples large area of mucosal abnorma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y be done under direct visualization, or with fluoroscopic guid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rushes may be bare of withi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covering shea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838080" y="5359320"/>
            <a:ext cx="236232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Garamond"/>
                <a:hlinkClick r:id="rId1"/>
              </a:rPr>
              <a:t>Brush Vide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5" descr="MVC-562L"/>
          <p:cNvPicPr/>
          <p:nvPr/>
        </p:nvPicPr>
        <p:blipFill>
          <a:blip r:embed="rId2"/>
          <a:srcRect l="50002" t="0" r="0" b="24277"/>
          <a:stretch/>
        </p:blipFill>
        <p:spPr>
          <a:xfrm>
            <a:off x="6781680" y="4038480"/>
            <a:ext cx="174312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001B-1B91-4F15-B284-832EC4C93C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Indications and brushing techniques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055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i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sible airway mucosal abnorma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ipheral lesion (lung nodule, abcess et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ipheral lung infiltr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chniq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tend catheter into target seg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tend brush “Brush out”. Be certain extended brush does not cause pain or pneumothorax, nor push bronchoscope proximall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ush forcefully and gently and frequently (5-10 times) with and without brush rotation so that all parts of brush touch the les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tract brush “Brush in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move the catheter-brush from the working channe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7E14-3CCB-4232-914D-658F2D968C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rushing Yiel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3429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eatest when cancer is pres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4% in case of central lesion, 78% in case of peripheral lesions. But yields can also be as low as 20 % for peripheral les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380880" y="5791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hest 1973;63:889, Chest 1976;69:752, J Bronchol 2004;11:154*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543800" y="182880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8" name="Group 6"/>
          <p:cNvGrpSpPr/>
          <p:nvPr/>
        </p:nvGrpSpPr>
        <p:grpSpPr>
          <a:xfrm>
            <a:off x="3809880" y="1676520"/>
            <a:ext cx="5334120" cy="3770280"/>
            <a:chOff x="3809880" y="1676520"/>
            <a:chExt cx="5334120" cy="3770280"/>
          </a:xfrm>
        </p:grpSpPr>
        <p:pic>
          <p:nvPicPr>
            <p:cNvPr id="139" name="Picture 7" descr=""/>
            <p:cNvPicPr/>
            <p:nvPr/>
          </p:nvPicPr>
          <p:blipFill>
            <a:blip r:embed="rId1"/>
            <a:srcRect l="0" t="0" r="19999" b="6782"/>
            <a:stretch/>
          </p:blipFill>
          <p:spPr>
            <a:xfrm>
              <a:off x="3809880" y="1752480"/>
              <a:ext cx="5105520" cy="369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Text Box 8"/>
            <p:cNvSpPr/>
            <p:nvPr/>
          </p:nvSpPr>
          <p:spPr>
            <a:xfrm>
              <a:off x="8305920" y="167652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3366"/>
                  </a:solidFill>
                  <a:latin typeface="Garamond"/>
                </a:rPr>
                <a:t>*</a:t>
              </a:r>
              <a:endParaRPr b="0" lang="en-US" sz="3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9ACC-1330-4F88-9E10-6B50B2EF4A9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rushing-related Complication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742840"/>
            <a:ext cx="4953240" cy="20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ee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neumothor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foration of lung abs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4" descr="KIRKPATRICK_008_hosptl_0423_01-17-05_procedure"/>
          <p:cNvPicPr/>
          <p:nvPr/>
        </p:nvPicPr>
        <p:blipFill>
          <a:blip r:embed="rId1"/>
          <a:srcRect l="25004" t="0" r="6248" b="0"/>
          <a:stretch/>
        </p:blipFill>
        <p:spPr>
          <a:xfrm>
            <a:off x="5791320" y="2286000"/>
            <a:ext cx="2793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9DAD-7633-4396-A67B-F080345921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8001000" cy="11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Bleeding risk if Thrombocytopenia: &lt;50,00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sk of bleeding: 0-26%  (TBBx, post transfusion)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(1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ushing with mean platelet count of 30,000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eed: 16% , Death: 4%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(2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to do? Transfuse 6 packs before &amp; during bronchoscopy, no need to recheck platelets 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(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telet half-life 6 hours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1) Weiss S, Chest, 1993;104:102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2) Papin T, Chest, 1985; 88:5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(3)Wahidi M, Respiration 2005;72:28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8C50-4CB8-4CE7-BDCF-DEEAA5997C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ombined procedures have greatest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yield for malignancy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ch Bronchoneumol. 2006;42(6):278-8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23880" indent="-23976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75 patients underwent bronchial washing before (pre) and after (post) endobronchial biopsy and brus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457200" y="3581280"/>
            <a:ext cx="8686800" cy="2627280"/>
          </a:xfrm>
          <a:prstGeom prst="rect">
            <a:avLst/>
          </a:prstGeom>
          <a:ln w="0">
            <a:noFill/>
          </a:ln>
        </p:spPr>
      </p:pic>
      <p:grpSp>
        <p:nvGrpSpPr>
          <p:cNvPr id="155" name="Group 5"/>
          <p:cNvGrpSpPr/>
          <p:nvPr/>
        </p:nvGrpSpPr>
        <p:grpSpPr>
          <a:xfrm>
            <a:off x="8077320" y="4495680"/>
            <a:ext cx="838080" cy="1295640"/>
            <a:chOff x="8077320" y="4495680"/>
            <a:chExt cx="838080" cy="1295640"/>
          </a:xfrm>
        </p:grpSpPr>
        <p:sp>
          <p:nvSpPr>
            <p:cNvPr id="156" name="Rectangle 6"/>
            <p:cNvSpPr/>
            <p:nvPr/>
          </p:nvSpPr>
          <p:spPr>
            <a:xfrm>
              <a:off x="8077320" y="4495680"/>
              <a:ext cx="838080" cy="45720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Rectangle 7"/>
            <p:cNvSpPr/>
            <p:nvPr/>
          </p:nvSpPr>
          <p:spPr>
            <a:xfrm>
              <a:off x="8077320" y="5486400"/>
              <a:ext cx="838080" cy="30492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AC95-132F-455A-A2CC-76A7803D10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When to perform endobronchial brushing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ible airway mucosal abnormal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sible airway nodules or mas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case of suspected sarcoidosis (even if airway mucosa appears norma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case of abnormal autofluorescence to diagnose intraepithelial lesions (dysplasia, metaplasia, carcinoma in-situ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F7EF-EDA2-4B43-A2E0-6BB9665D21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his presentation is part of a comprehensive curriculum for Flexible Bronchoscopy. Our goals are to help health care workers become better at what they do, and to decrease the burden of procedure-related training on patients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A69B-A721-4D2A-8D69-EEA8A90CBD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64" name="Group 2"/>
          <p:cNvGrpSpPr/>
          <p:nvPr/>
        </p:nvGrpSpPr>
        <p:grpSpPr>
          <a:xfrm>
            <a:off x="6400800" y="4038480"/>
            <a:ext cx="2590560" cy="2590560"/>
            <a:chOff x="6400800" y="4038480"/>
            <a:chExt cx="2590560" cy="2590560"/>
          </a:xfrm>
        </p:grpSpPr>
        <p:pic>
          <p:nvPicPr>
            <p:cNvPr id="165" name="Picture 3" descr="Bronchoscopy Atlas"/>
            <p:cNvPicPr/>
            <p:nvPr/>
          </p:nvPicPr>
          <p:blipFill>
            <a:blip r:embed="rId1"/>
            <a:stretch/>
          </p:blipFill>
          <p:spPr>
            <a:xfrm>
              <a:off x="6400800" y="4038480"/>
              <a:ext cx="259056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4"/>
            <p:cNvSpPr/>
            <p:nvPr/>
          </p:nvSpPr>
          <p:spPr>
            <a:xfrm>
              <a:off x="6685200" y="4150440"/>
              <a:ext cx="218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  <a:ea typeface="Arial"/>
                </a:rPr>
                <a:t>BRONCHATLAS</a:t>
              </a:r>
              <a:r>
                <a:rPr b="1" lang="en-US" sz="1800" spc="-1" strike="noStrike" baseline="30000">
                  <a:solidFill>
                    <a:srgbClr val="ffffff"/>
                  </a:solidFill>
                  <a:latin typeface="Tahoma"/>
                  <a:ea typeface="Arial"/>
                </a:rPr>
                <a:t>©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67" name="Picture 5" descr="Art of Bronchoscopy Page"/>
          <p:cNvPicPr/>
          <p:nvPr/>
        </p:nvPicPr>
        <p:blipFill>
          <a:blip r:embed="rId2"/>
          <a:stretch/>
        </p:blipFill>
        <p:spPr>
          <a:xfrm>
            <a:off x="2743200" y="4098960"/>
            <a:ext cx="3505320" cy="2571840"/>
          </a:xfrm>
          <a:prstGeom prst="rect">
            <a:avLst/>
          </a:prstGeom>
          <a:ln w="0">
            <a:noFill/>
          </a:ln>
        </p:spPr>
      </p:pic>
      <p:grpSp>
        <p:nvGrpSpPr>
          <p:cNvPr id="168" name="Group 6"/>
          <p:cNvGrpSpPr/>
          <p:nvPr/>
        </p:nvGrpSpPr>
        <p:grpSpPr>
          <a:xfrm>
            <a:off x="6553080" y="152280"/>
            <a:ext cx="2438280" cy="3276720"/>
            <a:chOff x="6553080" y="152280"/>
            <a:chExt cx="2438280" cy="3276720"/>
          </a:xfrm>
        </p:grpSpPr>
        <p:pic>
          <p:nvPicPr>
            <p:cNvPr id="169" name="Picture 7" descr="BRONCHOSCOPY poster FINAL"/>
            <p:cNvPicPr/>
            <p:nvPr/>
          </p:nvPicPr>
          <p:blipFill>
            <a:blip r:embed="rId3"/>
            <a:stretch/>
          </p:blipFill>
          <p:spPr>
            <a:xfrm>
              <a:off x="6553080" y="152280"/>
              <a:ext cx="2438280" cy="327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Rectangle 8"/>
            <p:cNvSpPr/>
            <p:nvPr/>
          </p:nvSpPr>
          <p:spPr>
            <a:xfrm>
              <a:off x="6553080" y="152280"/>
              <a:ext cx="2412720" cy="33732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Step by Step©</a:t>
              </a: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71" name="Picture 9" descr="Module 1"/>
          <p:cNvPicPr/>
          <p:nvPr/>
        </p:nvPicPr>
        <p:blipFill>
          <a:blip r:embed="rId4"/>
          <a:stretch/>
        </p:blipFill>
        <p:spPr>
          <a:xfrm>
            <a:off x="228600" y="228600"/>
            <a:ext cx="2362320" cy="289548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  <p:pic>
        <p:nvPicPr>
          <p:cNvPr id="172" name="Picture 10" descr="Assessment Icon"/>
          <p:cNvPicPr/>
          <p:nvPr/>
        </p:nvPicPr>
        <p:blipFill>
          <a:blip r:embed="rId5"/>
          <a:stretch/>
        </p:blipFill>
        <p:spPr>
          <a:xfrm>
            <a:off x="2971800" y="228600"/>
            <a:ext cx="3276720" cy="25131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Practical Approach Logo"/>
          <p:cNvPicPr/>
          <p:nvPr/>
        </p:nvPicPr>
        <p:blipFill>
          <a:blip r:embed="rId6"/>
          <a:stretch/>
        </p:blipFill>
        <p:spPr>
          <a:xfrm>
            <a:off x="228600" y="3352680"/>
            <a:ext cx="2341440" cy="32767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2"/>
          <p:cNvSpPr/>
          <p:nvPr/>
        </p:nvSpPr>
        <p:spPr>
          <a:xfrm>
            <a:off x="2971800" y="31240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Bronchoscopy.or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795D-5837-4AF5-883D-91DAC94B03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ll efforts are made by Bronchoscopy International to maintain currency of online information. All published multimedia slide shows, streaming videos, and essays can be cited for reference as: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ronchoscopy International: Art of Bronchoscopy, an Electronic On-Line Multimedia Slide Presentation. http://www.Bronchoscopy.org/Art of Bronchoscopy/htm. Published 2007 (Please add “Date Accessed”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304920" y="228600"/>
            <a:ext cx="8458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5" descr="art of bronchoscopy"/>
          <p:cNvPicPr/>
          <p:nvPr/>
        </p:nvPicPr>
        <p:blipFill>
          <a:blip r:embed="rId1"/>
          <a:stretch/>
        </p:blipFill>
        <p:spPr>
          <a:xfrm>
            <a:off x="2514600" y="3708360"/>
            <a:ext cx="3962520" cy="26398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6"/>
          <p:cNvSpPr/>
          <p:nvPr/>
        </p:nvSpPr>
        <p:spPr>
          <a:xfrm>
            <a:off x="6934320" y="49528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ank yo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E8DE8-9BE6-4AC5-9938-A04054DC93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Prepared with the expert assistance of Udaya Prakash M.D. (Mayo Clinic, USA), and Atul Mehta M.D. (Cleveland Clinic, USA), and Wes Shepherd M.D. (Virginia Commonwealth University, USA)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3" descr="Bronch International Poster"/>
          <p:cNvPicPr/>
          <p:nvPr/>
        </p:nvPicPr>
        <p:blipFill>
          <a:blip r:embed="rId1"/>
          <a:stretch/>
        </p:blipFill>
        <p:spPr>
          <a:xfrm>
            <a:off x="304920" y="3657600"/>
            <a:ext cx="4038480" cy="27036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4"/>
          <p:cNvSpPr/>
          <p:nvPr/>
        </p:nvSpPr>
        <p:spPr>
          <a:xfrm>
            <a:off x="4876920" y="57150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www.bronchoscopy.o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4FFE9-CF4C-492A-903A-B5AC0A89C1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Training is essential in order to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rn proper techniques and indic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oid procedure-related complica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rn to protect the equipment and the pati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obtain adequate tissue for diagno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avoid damaging the working chann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avoid excess patient discomfort (cough, anxiety, shortness of breath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avoid bleeding, that might also prompt cough and patient agita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BFDB-C534-48D3-8610-23B143492E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Q1: Optimal endobronchial brushing samples requires correct processing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64" name="Group 3"/>
          <p:cNvGrpSpPr/>
          <p:nvPr/>
        </p:nvGrpSpPr>
        <p:grpSpPr>
          <a:xfrm>
            <a:off x="228600" y="4114800"/>
            <a:ext cx="806400" cy="2544480"/>
            <a:chOff x="228600" y="4114800"/>
            <a:chExt cx="806400" cy="2544480"/>
          </a:xfrm>
        </p:grpSpPr>
        <p:sp>
          <p:nvSpPr>
            <p:cNvPr id="65" name="Freeform 4"/>
            <p:cNvSpPr/>
            <p:nvPr/>
          </p:nvSpPr>
          <p:spPr>
            <a:xfrm>
              <a:off x="486000" y="4257360"/>
              <a:ext cx="315720" cy="55476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Freeform 5"/>
            <p:cNvSpPr/>
            <p:nvPr/>
          </p:nvSpPr>
          <p:spPr>
            <a:xfrm>
              <a:off x="228600" y="4114800"/>
              <a:ext cx="363600" cy="8902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Freeform 6"/>
            <p:cNvSpPr/>
            <p:nvPr/>
          </p:nvSpPr>
          <p:spPr>
            <a:xfrm>
              <a:off x="571680" y="4853160"/>
              <a:ext cx="190440" cy="8362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Freeform 7"/>
            <p:cNvSpPr/>
            <p:nvPr/>
          </p:nvSpPr>
          <p:spPr>
            <a:xfrm>
              <a:off x="659520" y="4875840"/>
              <a:ext cx="290160" cy="6418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Freeform 8"/>
            <p:cNvSpPr/>
            <p:nvPr/>
          </p:nvSpPr>
          <p:spPr>
            <a:xfrm>
              <a:off x="682560" y="5603760"/>
              <a:ext cx="352440" cy="10378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Freeform 9"/>
            <p:cNvSpPr/>
            <p:nvPr/>
          </p:nvSpPr>
          <p:spPr>
            <a:xfrm>
              <a:off x="460440" y="5601960"/>
              <a:ext cx="236880" cy="10573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79A7-427C-4AF3-AD5A-1E16D389F3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Q8: Optimal endobronchial brushing samples requires correct processing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74" name="Group 3"/>
          <p:cNvGrpSpPr/>
          <p:nvPr/>
        </p:nvGrpSpPr>
        <p:grpSpPr>
          <a:xfrm>
            <a:off x="228600" y="4114800"/>
            <a:ext cx="806400" cy="2544480"/>
            <a:chOff x="228600" y="4114800"/>
            <a:chExt cx="806400" cy="2544480"/>
          </a:xfrm>
        </p:grpSpPr>
        <p:sp>
          <p:nvSpPr>
            <p:cNvPr id="75" name="Freeform 4"/>
            <p:cNvSpPr/>
            <p:nvPr/>
          </p:nvSpPr>
          <p:spPr>
            <a:xfrm>
              <a:off x="486000" y="4257360"/>
              <a:ext cx="315720" cy="55476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Freeform 5"/>
            <p:cNvSpPr/>
            <p:nvPr/>
          </p:nvSpPr>
          <p:spPr>
            <a:xfrm>
              <a:off x="228600" y="4114800"/>
              <a:ext cx="363600" cy="8902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Freeform 6"/>
            <p:cNvSpPr/>
            <p:nvPr/>
          </p:nvSpPr>
          <p:spPr>
            <a:xfrm>
              <a:off x="571680" y="4853160"/>
              <a:ext cx="190440" cy="8362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Freeform 7"/>
            <p:cNvSpPr/>
            <p:nvPr/>
          </p:nvSpPr>
          <p:spPr>
            <a:xfrm>
              <a:off x="659520" y="4875840"/>
              <a:ext cx="290160" cy="6418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Freeform 8"/>
            <p:cNvSpPr/>
            <p:nvPr/>
          </p:nvSpPr>
          <p:spPr>
            <a:xfrm>
              <a:off x="682560" y="5603760"/>
              <a:ext cx="352440" cy="10378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9"/>
            <p:cNvSpPr/>
            <p:nvPr/>
          </p:nvSpPr>
          <p:spPr>
            <a:xfrm>
              <a:off x="460440" y="5601960"/>
              <a:ext cx="236880" cy="10573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81" name="Picture 10" descr="Bagged"/>
          <p:cNvPicPr/>
          <p:nvPr/>
        </p:nvPicPr>
        <p:blipFill>
          <a:blip r:embed="rId1"/>
          <a:srcRect l="15276" t="0" r="22224" b="0"/>
          <a:stretch/>
        </p:blipFill>
        <p:spPr>
          <a:xfrm>
            <a:off x="2971800" y="1905120"/>
            <a:ext cx="3429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691A-3FE4-4ADE-8190-D435F2C6CD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ahoma"/>
              </a:rPr>
              <a:t>TRUE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. Brushing samples must be processed correctly and according to the needs and preferences of your institution’s cytology and microbiology laboratories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ther ways to potentially increase diagnostic yield inclu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ing brushes with longer brist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ushing vigorously and for a longer period of tim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king sure that all parts of the brush are in contact with the mucosal abnormalit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ing the pirouette technique (rotation) in combination with long-axis mot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65D3-961E-431C-84C6-DD42695A02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Bronchial brushing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Originally done under fluoroscopy without bronchoscop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Common indication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Visible endobronchial tumors or mucosal abnormal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Peripheral tumors (+/- fluoroscopy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Peripheral infection – pneumonia, abscess, cav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Brush samples larger surface area of les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74A2-9AEA-42EC-90FC-B70B74FAC4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Bronchial brushing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Different size brush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Standard 3 mm cytolog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7 mm brush (rarely used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No sheath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For visible lesions on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Cannot be retracted into scop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Collects more cells but yield and bleeding equivalent to 3 mm</a:t>
            </a:r>
            <a:r>
              <a:rPr b="0" lang="en-US" sz="1800" spc="-1" strike="noStrike" baseline="30000">
                <a:solidFill>
                  <a:srgbClr val="ffcc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rotected specimen brus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Avoid upper airway contamin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ahoma"/>
              </a:rPr>
              <a:t>For diagnosis of infection/ quantitative cultures</a:t>
            </a:r>
            <a:r>
              <a:rPr b="0" lang="en-US" sz="1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2819520" y="6324480"/>
            <a:ext cx="42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eve Clin J Med 1987;54:195-20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6" descr="Protected specimen brush"/>
          <p:cNvPicPr/>
          <p:nvPr/>
        </p:nvPicPr>
        <p:blipFill>
          <a:blip r:embed="rId1"/>
          <a:stretch/>
        </p:blipFill>
        <p:spPr>
          <a:xfrm>
            <a:off x="5486400" y="2057400"/>
            <a:ext cx="3429000" cy="31240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5410080" y="5181480"/>
            <a:ext cx="373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From </a:t>
            </a:r>
            <a:r>
              <a:rPr b="1" i="1" lang="en-US" sz="1200" spc="-1" strike="noStrike">
                <a:solidFill>
                  <a:srgbClr val="ffffff"/>
                </a:solidFill>
                <a:latin typeface="Tahoma"/>
              </a:rPr>
              <a:t>Flexible Bronchoscopy</a:t>
            </a: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 Wang and Meht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B409-DEA9-4E8C-89EA-01260D4EFB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Bronchial brushing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echniqu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Advance catheter into desired segment – then extend brush   (up to 5 c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Make sure brush extension doesn’t push back the scope or cath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Move back and forth over the visible lesion or blindly in distal airway (5-10 times)  +/- ro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Cells collected in brush bris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6T20:18:40Z</dcterms:created>
  <dc:creator>hcolt</dc:creator>
  <dc:description/>
  <dc:language>en-US</dc:language>
  <cp:lastModifiedBy>Administrator</cp:lastModifiedBy>
  <dcterms:modified xsi:type="dcterms:W3CDTF">2008-06-26T03:59:30Z</dcterms:modified>
  <cp:revision>266</cp:revision>
  <dc:subject>Endobronchial Brush</dc:subject>
  <dc:title>AB part 3B</dc:title>
</cp:coreProperties>
</file>